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F5F3-1C72-440F-8682-D5DA9FB3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D101-72FE-4E58-AF41-556757F7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AF1E0-C7E3-4294-8D9E-ADC07523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896DB-390E-474F-9CBF-6449255E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3915-268E-4CEF-BC04-4D528D27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7DD3-1216-4B29-BFA7-581605EE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1120-2188-42BB-92FD-409822E5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0EC6-F95B-43B7-955D-4AD35F23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5BA4-C220-43F9-9B15-D7770B01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C2FA-3EEC-4ECF-8C3E-432A3DA9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FD0D-A755-42D1-8A36-1D8B3236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B714-0E60-4A0F-8D11-6BAAC48A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4650-C327-473E-B4A4-02CF8FF5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6B1C-FBC4-41F1-A4D5-FA52D045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FC8F-7362-4955-A5FB-8F817DD8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5CEC-7A9A-408F-9D6F-D6229C31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736A-30AD-4850-AE07-2769E93E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02EB-D7A4-4C69-81AB-5EEF7F1B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8FF95-5D94-436C-9A42-C1AC1D85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5F81-FA70-4879-820F-64F28EB7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A91A-0FA2-42BB-9871-D3DFC1D2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5217-A822-41AE-849C-BCEECEA1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525CE-9BE7-42D6-9293-92F55846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0D58-EE38-48DC-8B18-F3371ED7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5974-B995-492A-8EEB-77E6CE1877B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9687-07A8-4A2B-B21C-92E97C16F50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063440"/>
            <a:ext cx="95774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  <a:ea typeface="Arial"/>
              </a:rPr>
              <a:t>298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3000" spc="-1" strike="noStrike">
                <a:solidFill>
                  <a:srgbClr val="ffffff"/>
                </a:solidFill>
                <a:latin typeface="Arial"/>
                <a:ea typeface="Arial"/>
              </a:rPr>
              <a:t>577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Ще ли се видим в двор небесни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на лице и смях?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Ще ли пеем наш'те песни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след борбата с всеки грях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252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е видим в двор небес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на лице и смях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ще пеем нащ'те пес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победата над грях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625400"/>
            <a:ext cx="10082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Ще ли видим наш'те мили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що умряха във Христа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кога Той с небесни сили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пак ще посети света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252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е видим в двор небес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на лице и смях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ще пеем нащ'те пес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победата над грях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49724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Ще ни трепне ли сърце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вида на милий Сп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ли гледаме лицето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й желателно за нас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252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е видим в двор небес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на лице и смях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ще пеем нащ'те пес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победата над грях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49724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Нека бързаме тога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да работим с любов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блаженство, още сла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тви ни во век веков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541440" y="1320840"/>
            <a:ext cx="100821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35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Ще се видим в двор небесни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на лице и смях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ам ще пеем наш'те песни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за победата над грях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6-30T08:20:55Z</dcterms:modified>
  <cp:revision>233</cp:revision>
  <dc:subject/>
  <dc:title>Slide 1</dc:title>
</cp:coreProperties>
</file>